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8.jpeg" ContentType="image/jpeg"/>
  <Override PartName="/ppt/media/image6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8971-7CD4-42B9-A056-3EFA0B462142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946-ABBE-4170-91A4-5A9540EF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DCA5-11F2-44AA-95D6-5D9F06DA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26C3-9E3D-47FE-9DA3-0476BA66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60A-8963-4640-A4E3-AD05A99B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9C04-E722-44D7-AD70-B3A1E53D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C2FE-0A6E-45DF-8F29-B91D6424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A2FF-FBF1-4E1E-8630-C54179D0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A955-75C8-4088-A54A-37158C4C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E40B-2D4A-412F-A246-627A8CB8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F66A-ECC1-46B4-BD01-EDA72FFF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CBC0-69E2-44FD-85E8-77BA5C40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4A2-113C-4B4E-9088-4992CF28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C0F1-DA88-435F-946D-BD35CDDE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B95B-7513-4F15-AAA6-B379FB97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CCB1-DB06-407B-B910-DE645459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B498-B5B3-4637-BEBA-8C25E150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49AE-D152-4054-9065-A9C5402A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8AB8F-4CC4-4EF3-BF2A-1548C780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62B81-D02A-4084-A6AE-905D5C3E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2FF76-36C6-478A-B067-306B63BA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C1C69-F0A1-4445-80AD-9CD50233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4F1C4-2CE0-4768-B73B-78B03597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875-9784-4956-ABC4-2AB479CA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3DB55-48BC-496C-A379-8A50A573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D544E-E2B0-4A8A-BF66-402A664D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72B3F-FE4E-4FA1-A6EE-2D99EB68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68162-8456-48E5-80F0-3D87BBB3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C60BD-6A2A-4912-B008-D4A0436C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2965E-BBCE-4383-9FDB-A5051B6F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75A8-2089-4D12-84D8-C2E41871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83584-3206-426D-981E-12A1D84D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2A3F2-64F5-4EA0-951F-F6E7F8CA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10145-9B7B-413F-8865-0EDD757C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385-9F6A-4F3E-915C-2A90D92E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7FBA8-9F95-4EC4-BFFB-EAB6067C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00D32-4329-4B52-A779-32A40076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08CCF-2C94-4B77-BE5B-E2A2C37F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6BA45-E328-4257-8A8B-62FBC450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7BC69-1531-47A4-9063-45608E21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31E2C-42BE-479D-B8D9-A09F20BD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E5AC0-F558-44A7-8061-C81037E9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177D9-3EA9-4EAA-B190-1E816554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F1F40-44F3-4408-A6E1-AEE9C26F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A99-6CE9-42F7-A23C-34D568BF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98E-3578-4106-B7EC-639160D9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5227-0BF3-48F7-962D-D922D51E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1D6-4128-45F4-B853-BA608A00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DE5-198F-4EC8-98DE-B6918F76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8461-3B15-40A0-AC34-C8DBCF00E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ADE5-25ED-4343-A28E-A93D36A45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C897-89C4-4CA2-98DA-9AF00D0D5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D3F0-6C80-4B34-A612-B06C60875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                             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4000" y="6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1268280"/>
            <a:ext cx="89154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178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184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194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05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14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22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uevos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, 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, Páprika, Alcachofa sin espi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 – Anís, Linaza (Curahuas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, Artesa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9" dur="5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21:33:27Z</dcterms:modified>
  <cp:revision>1159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216244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