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9.png" ContentType="image/png"/>
  <Override PartName="/ppt/media/image18.jpeg" ContentType="image/jpeg"/>
  <Override PartName="/ppt/media/image6.wmf" ContentType="image/x-wmf"/>
  <Override PartName="/ppt/media/image17.png" ContentType="image/pn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5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1859-AC5E-40D3-A504-0C3F3E617A19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8AFC-B1A4-4E99-A53E-892ACD44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EFA6-3DE8-4144-A3F6-CC9251D4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F90B-9E44-4840-8AEE-B247A727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4D05-619D-48D9-A6CF-C85279AC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7951-A57A-4C8A-80B9-D39EAA10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8282-404F-44F6-AB0A-914E715E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85BB-C382-4DB3-BF71-ABDCDB5B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E72C-A32F-40C0-90D9-4CEF46DA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52EA-52F1-4B5B-B447-D14D57F0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B2A1-0DC4-43BE-9574-1F0D0474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9F53-CF4A-41B7-A810-B349C5DC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42CD-A67D-4AF2-A9BE-D5B473BB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EFCD-E91B-4CE4-8215-ECDD9332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8028-CA90-4284-A4CB-1F11D7D2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3D14-2260-44BD-A54F-6BFC571E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FBBE-5B1A-4735-A1D0-BEA32A8A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739E-D000-41C9-88B2-562F0D01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13774-3057-4EA8-9043-F99E494D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C7C45-E13F-4371-8D50-6C6FFDDB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7EC0D-03CF-40F6-B574-414F42EB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C0381-36E0-4947-B2B3-DF26A4B0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85192-3E06-4991-9E58-54AC28B9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2583-47FB-4440-86D3-3D3F3965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89178-AE45-44C5-A0FA-64051A61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50DFE-7C33-41D0-9FD6-4830E033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DF26E-83A4-4AF3-970E-64BE0E94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21376-6E10-4193-81D3-E1BE2ECA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1C132-2CD1-46DA-A7C8-CE7B9D06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AB918-DCEC-4E5B-82E8-11D1A2F0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57BE5-BA1A-4681-A500-8A47463A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CFDA0-3125-4B28-9EEA-CDC0B503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CC438-EB33-4ADF-9AC4-C544D709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71AE6-3A1F-48C8-898A-E0874B74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E3B9-A1B5-4F94-9B40-FD3E992C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A24B6-DB34-47F8-8DAD-DB83D0BD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0C17E-EBFC-40E4-9DE4-684A16B3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637A8-629D-4B74-BE78-1C60D230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E17AF-A28D-4B8D-B868-46F4B262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C1D51-05EC-4DE7-92F3-0B5182FE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B7285-E147-48ED-BF88-5233F7D8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437C8-DA95-4223-AD4A-25948BB8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091DB-3CD4-4BC6-B360-1ACF6229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C1F03-FCBC-4705-8CF6-B1B7F5AA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DB8C-DDA4-40C0-8CCE-9BF4DF68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584D-EC63-4B52-A1DC-CC894779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D44-C09C-408B-A4C2-1AC3DD3E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2C4E-8973-4794-B9D3-AB819509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F21-5779-4812-ACEE-69511957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4A59-5B7B-48F8-A284-4BFBD6CFE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E4EC-6D34-431E-B1FE-57E7CE076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97B9-17C7-4A35-8D58-9D850B855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D2B5-EC8A-413C-A719-06BB3AB937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                             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14000" y="65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28600" y="1268280"/>
            <a:ext cx="89154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178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184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85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194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05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06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14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15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7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22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3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uevos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, 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, Páprika, Alcachofa sin espi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 – Anís, Linaza (Curahuas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, Artesa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1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3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1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3" dur="5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7" dur="500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1" dur="500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500"/>
                            </p:stCondLst>
                            <p:childTnLst>
                              <p:par>
                                <p:cTn id="1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9" dur="500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500"/>
                            </p:stCondLst>
                            <p:childTnLst>
                              <p:par>
                                <p:cTn id="1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21:33:27Z</dcterms:modified>
  <cp:revision>1159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1216244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