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9.png" ContentType="image/png"/>
  <Override PartName="/ppt/media/image18.jpeg" ContentType="image/jpeg"/>
  <Override PartName="/ppt/media/image6.wmf" ContentType="image/x-wmf"/>
  <Override PartName="/ppt/media/image17.png" ContentType="image/pn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5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1B6F-58FA-44A8-8D04-A2BA73F15683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7C32-0CCD-4D39-87DE-8F0835027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792D-0757-414C-AEBB-BC8F16BA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172A-DD29-4AD9-916B-A6A88FF7B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0077-C37B-4852-AD1B-289A9E912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2427-33CE-45B1-BBA8-AD00FF9E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0AED-2546-44E8-B490-38CF6768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A295-5ECA-4E67-8C20-FEEFED15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BC8B-C9CB-4865-A0CD-92892FBB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1A69-39A2-4E6C-8D9F-EB53E25D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E9B8-790F-4848-9B98-F45B4E01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CEFE-763E-4D57-95BA-0E279269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C260-1C7D-4789-AF8D-0045DC30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CCB0-12B9-4B05-A8F9-4A6F25F2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35CC-BEEC-49CA-9965-69DDC62D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5A8E-EFF5-4D05-890B-7B42B2AA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3C62-A8F8-425F-9573-2C3036A0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4779-C392-42FF-B91C-8710DEB0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4B600-3A44-4CA2-906C-98E3E8CB5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F78B2-2F71-4D26-BE24-D0A3A117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25219-1B66-4F6E-872C-C827F26F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39626-ED3C-44D1-AC19-E1EF4CBB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259E2-C1A9-4DCC-8878-E7674CB4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BBAA-A513-479B-91D3-B0CE7233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E5AE1-DB32-4CEE-AABF-D43D19B0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38003-B3C6-45A9-BD55-CF1A7C8F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47551-0873-4510-AAD4-29E1EBD6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2B250-DAF3-41F8-9793-31CC4D13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C2CF1-21DA-41CF-9884-EEE0712F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25F7F-FD07-479F-BB02-D41B760E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8107A-E321-4ABC-9A66-B34E25156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8214F-408A-4EEF-9F79-9F7345F9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512E0-AC74-41D1-875C-C645F90B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DC0D4-DD88-48A6-9A48-71B5D11C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DDCF-DA50-4DEC-AA55-FF6807D5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FDC14-0A5A-4BA3-9AA4-FF2CFBC0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BB82B-7C8C-4820-B4D0-94DF2267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921A2-DDC4-4D87-AB4F-BD6D700A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52A5B-9891-4225-BEB5-D24342B2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2DAD3-28CE-4FB6-AA2A-82B92BCB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33DE6-9533-43D9-A8F7-A83F8689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899A4-CE06-4948-8B98-9FDBD862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3D1F0-BCEC-44A9-8BFE-000FC2A60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EBDC8-D240-42CE-ADC2-3A7E34B0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DD27-D3BA-48F5-A6D8-49058616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F35F-C645-4640-85F5-954269E2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B4E5-7DBD-4ADE-B757-F7276165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29E2-EE9F-47FA-B77D-136FE14F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8A05-08E9-4082-954E-F7FEC52A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120C-6D5B-4B07-B377-7FBC460F2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6EFB-E303-411C-A962-2CDCA4BBE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6208-7FF9-48B3-AA27-BF444DDD5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92360" y="609120"/>
            <a:ext cx="316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148B-A354-489C-A7E2-C5E601694A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270828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en 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ICACOLOR</a:t>
            </a:r>
            <a:br>
              <a:rPr sz="28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Colorantes de Achiot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195640" y="2852640"/>
            <a:ext cx="4681440" cy="26798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MISEA - PLUSPETR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1163520" y="1981080"/>
            <a:ext cx="6816960" cy="4114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421080" y="15573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 CAMISEA A L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9440" y="65390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lustetr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KANTU                             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(Cerámica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2050920" y="1773360"/>
            <a:ext cx="5148360" cy="41148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514000" y="65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28600" y="1268280"/>
            <a:ext cx="89154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Upa upa upapá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El Cienciano es el papá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178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0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n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168120" y="838080"/>
            <a:ext cx="8975880" cy="6021720"/>
            <a:chOff x="168120" y="838080"/>
            <a:chExt cx="8975880" cy="6021720"/>
          </a:xfrm>
        </p:grpSpPr>
        <p:sp>
          <p:nvSpPr>
            <p:cNvPr id="184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85" name=""/>
            <p:cNvGraphicFramePr/>
            <p:nvPr/>
          </p:nvGraphicFramePr>
          <p:xfrm>
            <a:off x="176040" y="838080"/>
            <a:ext cx="89679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6040" y="838080"/>
                      <a:ext cx="89679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194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95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-5040" y="6400800"/>
            <a:ext cx="201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9280" y="981000"/>
          <a:ext cx="89154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981000"/>
                    <a:ext cx="8915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87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OBRE POR PRINCIPALES EMPRESAS 1991-2004* (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68320" y="-360"/>
            <a:ext cx="737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BALANZA COMERCIAL DE HIDROCARBUROS </a:t>
            </a:r>
            <a:br>
              <a:rPr sz="1600"/>
            </a:b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1975-2004*</a:t>
            </a: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Millones US$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-3960" y="789120"/>
            <a:ext cx="8900280" cy="6168240"/>
            <a:chOff x="-3960" y="789120"/>
            <a:chExt cx="8900280" cy="6168240"/>
          </a:xfrm>
        </p:grpSpPr>
        <p:sp>
          <p:nvSpPr>
            <p:cNvPr id="205" name=""/>
            <p:cNvSpPr/>
            <p:nvPr/>
          </p:nvSpPr>
          <p:spPr>
            <a:xfrm>
              <a:off x="-3960" y="6437160"/>
              <a:ext cx="290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* Datos al mes de may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MEM / INFORM@CC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06" name=""/>
            <p:cNvGraphicFramePr/>
            <p:nvPr/>
          </p:nvGraphicFramePr>
          <p:xfrm>
            <a:off x="0" y="789120"/>
            <a:ext cx="8896320" cy="542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789120"/>
                      <a:ext cx="8896320" cy="54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332000" y="0"/>
            <a:ext cx="7315200" cy="72612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214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15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7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222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23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uevos Negocios en Cus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41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cao, 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hiote – Colorantes (AICACOL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miento Piquillo, Páprika, Alcachofa sin espi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nos Andinos Procesados (Industrias Molicus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millas (Semillas Andahuaylas) – Anís, Linaza (Curahuas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ara (CIDI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nestras (Don Gra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nes Rojas (AGROB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erámicas Kan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misea (Pluspe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oyería, Artesan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364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1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5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9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3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7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1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9" dur="5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3" dur="500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500"/>
                            </p:stCondLst>
                            <p:childTnLst>
                              <p:par>
                                <p:cTn id="16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7" dur="500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1" dur="500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500"/>
                            </p:stCondLst>
                            <p:childTnLst>
                              <p:par>
                                <p:cTn id="1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9" dur="500"/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500"/>
                            </p:stCondLst>
                            <p:childTnLst>
                              <p:par>
                                <p:cTn id="1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8-12T21:33:27Z</dcterms:modified>
  <cp:revision>1159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12162445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</Properties>
</file>